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E55-B12E-4EEC-8856-26D525F3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05C-DABB-428B-A415-1DF4B7D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7B4-02A1-46DF-BD6E-4E4CDA7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E44-FFE3-4E79-B2AB-40A4DA75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0BD-F110-4987-8198-80233F18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AD4-2BFA-4E60-B53C-BA7A490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779F-C094-4EA5-83D8-C063595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5CC5-4704-4199-949C-4BAC2CBB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ED0E-EB56-464A-88C3-2AC2807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0681-0BC3-4371-9E6A-9EFF350B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E83-6356-4431-AF1C-688D758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E7B-852C-4333-A7D2-086D5697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23FD-A2FF-41BD-BC9E-F8CA211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6F38-E1BC-4671-B09E-F089D48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637F-92D4-4600-AB6C-5E82F51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EBE-CAEA-4491-9B5C-B87B6E2A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484C-1A63-448B-B277-52A72E25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2C2-9140-41DC-A9F5-A53FDBA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F8C-62CA-4838-A50D-D8700FC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4A4-9545-46E1-BB03-7026A998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0AC-E918-4CF3-BBCF-DADB04A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EFF-1A98-4AE5-BDF7-58E85E9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501-B238-4E72-B5DA-2414AAC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573-6981-4F43-8CB3-1E5B537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B8CB-0DC9-43EA-94D3-126A48477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23B-7BD2-4CE4-89D1-EFA63D167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nderful World of Geography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Geography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earth’s landforms an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ways in which you use geography in your everyday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Themes of Geograp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oint on Earth has a specific location that is determined by an imaginary grid of lines denoting latitude and longitu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laces have characteristics, both hum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hysical, that give them meaning and character and distinguish them from other places on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hysical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man/Environment Inte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ers look at all the effects, both positive and negative, that occur when people interact with their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tudying the consequences of human/environment interaction, we are able to plan and manage the environment responsib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human/environmen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v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ople move from one place to another, they interact with other people, places, and th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municate with each other; and they rely upon products, information, and ideas that come from beyond their immediate enviro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sic unit of geographic study is the region, an area on the earth’s surface that is defined by certain unifying characteristic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fying characteristics may be physical, human, or cultural. In addition to studying the unifying characteristics of a region, geographers study how a region changes over tim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regions and thei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night’s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1.3 (pp.14-1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3 boldface te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class handout p.2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03:59Z</dcterms:created>
  <dc:creator>vevans</dc:creator>
  <dc:description/>
  <dc:language>en-US</dc:language>
  <cp:lastModifiedBy>vevans</cp:lastModifiedBy>
  <dcterms:modified xsi:type="dcterms:W3CDTF">2009-08-18T03:37:39Z</dcterms:modified>
  <cp:revision>17</cp:revision>
  <dc:subject/>
  <dc:title>The Wonderful World of Geography  </dc:title>
</cp:coreProperties>
</file>